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6.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6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AA66-7686-4890-AF3F-015E4214CD3A}"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nt Embassy today stands in front of the Old Parliament House as a historical landmark of Austral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has also made an appearance at the 2000 Sydney Olympics. The embassy supporters have used this once in a lifetime opportunity to tell the world about their history and righ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thanks to these brave people who fought for their reputation and equal rights as citizens to pass onto the future of Aboriginals today.</a:t>
            </a: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6E98-8D53-4BEE-A2C4-A7B6951ABB46}"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CBC6-303C-43A5-9729-F00D3409DD86}"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95EE-6FF8-4949-902B-7B74C38AAFDF}"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igner of the Aboriginal Flag, Harold Thomas was born in Alice Sp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s mother was from the Luritja clan and his father was from the Wombai c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5, he won a scholarship to the South Australian School of Art after he was sent to St Francis’ Anglican Boy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was the first Aboriginal to graduate from an Australian Art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also earned an Honorary Degree in Social Anthropology from Adelaid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70, he began working at the South Australian Museum as a survey artist. This is where he designed the fl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continued to work as an artist and his artwork are on display in several Australian gall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B98-A0F2-47A2-88F8-180FD25B7B18}"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you can see, the Aboriginal Flag is a rectangle that is horizontally divided into ha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op half is black and the bottom half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lso a yellow circle in the centre of the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lack represents the Aboriginal people of Austr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d represents the red earth and the red ochre used in ceremonies and Aboriginal peoples’ spiritual relation to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the yellow represents the sun, the giver of life and prot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rmally, a flag would have the lighter colour at the top and the darker colour at the bottom but Harold Thomas has done the oppo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ason is to make the flag look unsettling and to show that Aboriginal people walk on top of the la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A2BE-8102-4556-AD06-A8D638696D44}"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first time the Aboriginal flag was flown was at Victoria Square in Adelaide on National Aborigines day, July 12</a:t>
            </a:r>
            <a:r>
              <a:rPr b="0" lang="en-AU" sz="1400" spc="-1" strike="noStrike" baseline="30000">
                <a:solidFill>
                  <a:srgbClr val="000000"/>
                </a:solidFill>
                <a:latin typeface="Arial"/>
              </a:rPr>
              <a:t>th</a:t>
            </a:r>
            <a:r>
              <a:rPr b="0" lang="en-AU" sz="1400" spc="-1" strike="noStrike">
                <a:solidFill>
                  <a:srgbClr val="000000"/>
                </a:solidFill>
                <a:latin typeface="Arial"/>
              </a:rPr>
              <a:t> 197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 was also used later at the Tent Embassy in Canberra in 1972, when there was an inequality of the Aboriginal human right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5, the Australian Government proclaimed the flag as an official 'Flag of Australia' under section 5 of the Flags Act 19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7A2F-40E6-4C94-A75A-8782143B1F64}"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boriginal flag was created as a symbol of unity and national identity for Aboriginal people during the land rights movement of the early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lag displayed permanently at Aboriginal centres throughout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flag should only be flown by other Australians with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flown during NAIDOC Week (which stands for National Aborigines and Islanders Day Observance Committee) to celebrate and encourage greater understanding of Indigenous people and cultu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1960’s, the Aborigines became frustrated with the Australian Federal Government for not living up to the 1967 Referendum. The natives basically said, “You have given us all these things but nothing has chan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boriginal people were seeking national justice, including land rights, education, legal rights, health and proper citizenship. Parties such as the Freedom Ride clearly indicates the beginning of a black revolution.</a:t>
            </a: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E07C-700F-4598-B56E-067EF93CD57A}"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nt Embassy was erected on Australia Day, 26</a:t>
            </a:r>
            <a:r>
              <a:rPr b="0" lang="en-AU" sz="1200" spc="-1" strike="noStrike" baseline="30000">
                <a:solidFill>
                  <a:srgbClr val="000000"/>
                </a:solidFill>
                <a:latin typeface="Arial"/>
              </a:rPr>
              <a:t>th</a:t>
            </a:r>
            <a:r>
              <a:rPr b="0" lang="en-AU" sz="1200" spc="-1" strike="noStrike">
                <a:solidFill>
                  <a:srgbClr val="000000"/>
                </a:solidFill>
                <a:latin typeface="Arial"/>
              </a:rPr>
              <a:t> of January 1972 on the lawn of the Parliament House, which is the old Parliament House of to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as organised by a group of Aboriginal people living in Sydney; to show that they were being treated like foreigners in their own country and have no legal freehold to any part of Australia.</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431B-06F6-4A23-86AA-43A0CF38454C}"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pite the many attempts by the police to remove the tent such as on the 20</a:t>
            </a:r>
            <a:r>
              <a:rPr b="0" lang="en-AU" sz="1200" spc="-1" strike="noStrike" baseline="30000">
                <a:solidFill>
                  <a:srgbClr val="000000"/>
                </a:solidFill>
                <a:latin typeface="Arial"/>
              </a:rPr>
              <a:t>th</a:t>
            </a:r>
            <a:r>
              <a:rPr b="0" lang="en-AU" sz="1200" spc="-1" strike="noStrike">
                <a:solidFill>
                  <a:srgbClr val="000000"/>
                </a:solidFill>
                <a:latin typeface="Arial"/>
              </a:rPr>
              <a:t> of July 1972 where the tent was torn down by a police force march of 150. However, the tent was re-erected 10 days after the incident and prevented its removal by 1500 supporters.</a:t>
            </a: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A82E-1562-48D0-BDCC-352B141C21F1}"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February 1975, Charles Perkins and the Minister of the ACT negotiated a temporary removal of the Aboriginal Tent Embassy. At this point, Charles Perkins spoke for the Aboriginals after making his reputation from the Freedom R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promised, the Tent Embassy was re-erected in January 1992.</a:t>
            </a: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735F-300F-45EE-9A9E-C83BC751BF2B}" type="slidenum">
              <a:rPr b="0" lang="en-A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B7578-719B-49F6-A863-E2172B1C8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9B2F-1581-4E81-B327-3D5298C10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8AA318-8937-4025-A30F-FCC22E554A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C165C-7E43-4CBA-BEFE-77CA53489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0C17C8-D9DF-4182-BA3D-6C3868A60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68DFC-C7B8-4F06-A9D1-D2898AC0C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624E3-1A36-4260-BC85-9C41303E3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4CD43-47F5-4111-87DF-2A7A7901A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D28FC-5780-4D5F-B448-CA26A687E3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D7EBC1-A936-4638-A476-971E1C212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0B1457-F7F8-4552-8BC8-2190DCADA9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CFBA9D-4620-4AEE-9C35-0AFF511395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B977E-1A56-4039-96EF-A08978816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7026C6-AA5F-40E6-99F8-9DDAEC5E61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B9F4D0-EC2B-4390-B17A-6674FDE48A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2364B3-89F8-4C5A-88AC-467CBAEC7E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683E30-4715-490D-92A1-2802BA71C8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A3757F-C5AC-449D-91E9-162334DD8A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408A14-026D-46C9-937B-DAB0921BB1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6D2128-C3FA-4C73-A659-AB5A50A4C9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747C31-5A80-49FB-B9C2-98B9CC70A7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94889F-DF2A-4160-AE7A-B226732892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498D5B-594C-42E3-AAAC-14CC5AFB09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8438-AE80-4582-8C5C-8E326F875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33D948-EEBE-4EF4-9AC7-007F6D5F2A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F22A0F-7B4E-4C3D-8E57-68C2C62B40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DDCA22-8008-4E6F-B05A-5460D12AF4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C831A0-F96D-4906-AC57-560D21B236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04017A-0977-4BF8-8C86-07C00A63B2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FF43B8-ECCD-4389-8535-2BDB374AA6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77C620-9F5F-43C4-A48B-9C96E63C1A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B83A1F-A446-429C-815D-950DC77F31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DDF076-5D63-4484-9A9E-832FE3407D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074321-54C9-452F-A7CB-2CCE76CF48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C7F6B8-FB9F-478A-A79A-65DF06A422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51C956-FC2E-43FD-BF3E-03BCFFEC7B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324460-F39C-411C-9ED0-D0F7EED98C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266552-EFE4-476B-8C1A-E67CB50970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1CBEB-AC9A-44F7-A934-CFA919DF8A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DF97F-7493-4431-B181-A42DBDD7D1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8D664-AFD4-41CE-9548-A967405E60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E1990-20F0-404D-B498-63A3A8CEF2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82E95-9DCF-436A-BA69-6E08E50D85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169DD-77EB-47D5-86DB-09AA2B4C8A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47477-2C0E-4FFD-AB27-6ED8BD96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6640E-BB56-4417-B76A-776F1F8B84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5C429-2864-4BBA-8329-F2B38EE341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B18DE-72F7-4E47-BB23-F9D043EF31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2D834D-043D-4D78-8804-6BEAE623F7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EB789F-1073-4474-9463-87D141BE7C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97ACC-A442-43CB-89E7-0A72BF94B4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385AA-4F71-4A9F-92C0-1C99BE460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80F80-00E6-44E6-A924-B491D8475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4AEB7-0527-4DD7-BDF6-A936E31D1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4D71B-7B65-4125-B794-749ADD603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4153-BE67-485B-BE4C-EFF4AC335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E0BB2-64F0-494F-9111-F94B49B9A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09328-BB94-408F-AF74-89C2F13B9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A7903-EDD1-4967-BFE8-43DC8C651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FB124-B665-4831-8806-FEE4EB0B5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1545C-5798-42A7-A8DC-E8DA633FB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BFF099-3127-48A9-9FAB-1466ECE1E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F7598-CFCB-4D18-89A4-EE48F2AD69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FAF137-A8C6-4AEA-A237-D593012896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9FA30-2FCD-4B09-98F1-B58B351FE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02B68-44DE-489E-9450-5861C7297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B80A7-FA46-4688-A229-BD590321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7F104-0D84-4D39-8C82-B43D709B7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677DA-6D9D-4BF5-8AAA-E7D04B2A5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799CB-7D8E-4316-BE1F-EB00B15C6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087E6-E86A-4565-AA10-B0EE82542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6DE8C-3734-428E-A496-75710F72B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073D8-A9DF-4C7F-844F-3CFCBF0B5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140E9-9837-43DA-97F1-3C99FD561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11C26-88D9-4543-9B69-C8BF9613C2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4D8CC-BF66-434F-9F24-827E4961EE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D1F6A6-E3F4-4533-AB6C-1A0505F462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907AF-99E9-4F5B-88F6-D0BEA1AD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617998-21C5-4040-9FA9-84F315E34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8347D-465C-4C82-B4FE-FECDEA0E1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B4CCE-EAE6-4B0B-A947-B69357170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9A1A0-C9CC-4C79-87BC-4195BAA4C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83313-64F0-49BE-B25F-D1E3BBAE91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C63E3-78AB-40B7-923B-C3262DA28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5B035-9FCF-43E1-9663-5755806D2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BBA14-5923-488B-9712-9356E1E25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6D31D-37FE-4AE7-972F-20E272A20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6F801E-D571-4D2F-BB58-711B818334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F17B2-BC2C-4F71-AF32-DF8CB848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B58603-58D1-44C8-8398-F211DF23E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D594D-1780-4C6F-A7DB-9F32D1E4CB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CD280-9FD1-450D-B7D4-D54E36869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1BF8F-DB74-4F00-BE1C-3149DCFB3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A5E70-FFEB-4EF8-A59B-C6EB5DDE5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AACFD-D9A2-4110-9C71-B1296B46E0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3F290-AEB4-42B8-A5F5-6EDC3602A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1E56A-5E1D-47DC-A5C1-7611776F0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DC413-57F1-4DDE-ACC6-571A3FD51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42790-C493-4DC8-BB82-B6300AB4E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5C398-ABA1-40E4-B654-8DDEED9BA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0620F-F29F-4742-A1F1-71AF21E97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63A3D-20E4-4975-AF75-20C7339BD3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83AC22-3E97-489C-ABFB-64F1F23958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6EA019-4B27-4C75-9E04-35D0A76F5F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84C24-BBF7-453B-A555-B5A02E3AF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D3FE0-584B-4FE8-A443-5F88BDE7B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A2612-C000-4A81-80EE-1A0F143A4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A3B8E5-1FDA-44F9-8C63-F1EDF91B4A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06DD8-A9C2-4A0C-BEDA-5F0FEAEFA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3D6E9-35DD-4591-8081-442217D13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3BA1-E1E5-425D-9091-69A755A93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749B5-9BF5-495D-B438-3D3E76E74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B6090-A8B7-4CEF-B341-09606359C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3DAD2-3162-429C-8282-63EE0C27E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788CFE-CFD2-48B9-8FC1-51844E1644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B14AC-A2CF-4931-A75E-EE2BCC5B14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D5C964-4974-4A49-A495-2C0AB49703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346F6-AE26-4022-8A6A-5EA5BA0DA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E5282-E960-4579-9056-EB4051D9A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9B7E5-35C6-47C0-86E5-4C0C2B155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085AC-3C0B-4FCE-B957-AF505C27A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3B73-8ACF-49A6-BC85-638AF9E0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386B6F-4F78-4D80-90C6-217A54C13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1CC69-6BBA-4782-8260-BB8F6B472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BC615-8BE2-4647-98A9-9EA540B12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3D122-EFC5-4246-9F42-ACE0BA68C8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92BC1-323F-464E-BD17-CD748A260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3A928C-124A-48FF-965B-05979FED56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88A1B-ADC3-40AB-BBF7-FEBAE7E8A0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D864D3-E657-490F-85CE-1704409652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2DE8D9-19C0-40D9-A386-6E1E1E47F2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A27E5-D788-498D-83BB-50FD89C772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C625-4C37-4116-B615-056424AE27D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1"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PlaceHolder 5"/>
          <p:cNvSpPr>
            <a:spLocks noGrp="1"/>
          </p:cNvSpPr>
          <p:nvPr>
            <p:ph type="sldNum" idx="30"/>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8595-C7C7-450B-A95B-E60461A2C5D5}"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61" name="Group 19"/>
          <p:cNvGrpSpPr/>
          <p:nvPr/>
        </p:nvGrpSpPr>
        <p:grpSpPr>
          <a:xfrm>
            <a:off x="8516880" y="1217520"/>
            <a:ext cx="128160" cy="131400"/>
            <a:chOff x="8516880" y="1217520"/>
            <a:chExt cx="128160" cy="131400"/>
          </a:xfrm>
        </p:grpSpPr>
        <p:sp>
          <p:nvSpPr>
            <p:cNvPr id="562"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63"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4"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565" name="Group 25"/>
          <p:cNvGrpSpPr/>
          <p:nvPr/>
        </p:nvGrpSpPr>
        <p:grpSpPr>
          <a:xfrm>
            <a:off x="8669160" y="1370160"/>
            <a:ext cx="129240" cy="131400"/>
            <a:chOff x="8669160" y="1370160"/>
            <a:chExt cx="129240" cy="131400"/>
          </a:xfrm>
        </p:grpSpPr>
        <p:sp>
          <p:nvSpPr>
            <p:cNvPr id="566"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67"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569" name="Group 29"/>
          <p:cNvGrpSpPr/>
          <p:nvPr/>
        </p:nvGrpSpPr>
        <p:grpSpPr>
          <a:xfrm>
            <a:off x="8321760" y="1473120"/>
            <a:ext cx="128160" cy="131400"/>
            <a:chOff x="8321760" y="1473120"/>
            <a:chExt cx="128160" cy="131400"/>
          </a:xfrm>
        </p:grpSpPr>
        <p:sp>
          <p:nvSpPr>
            <p:cNvPr id="570"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71"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2"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75" name="PlaceHolder 3"/>
          <p:cNvSpPr>
            <a:spLocks noGrp="1"/>
          </p:cNvSpPr>
          <p:nvPr>
            <p:ph type="dt" idx="31"/>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6" name="PlaceHolder 4"/>
          <p:cNvSpPr>
            <a:spLocks noGrp="1"/>
          </p:cNvSpPr>
          <p:nvPr>
            <p:ph type="ftr" idx="32"/>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7" name="PlaceHolder 5"/>
          <p:cNvSpPr>
            <a:spLocks noGrp="1"/>
          </p:cNvSpPr>
          <p:nvPr>
            <p:ph type="sldNum" idx="33"/>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844F-2D52-4A1A-B331-3BEC353A3328}"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0" name="Group 2"/>
          <p:cNvGrpSpPr/>
          <p:nvPr/>
        </p:nvGrpSpPr>
        <p:grpSpPr>
          <a:xfrm>
            <a:off x="0" y="0"/>
            <a:ext cx="9159840" cy="6858000"/>
            <a:chOff x="0" y="0"/>
            <a:chExt cx="9159840" cy="6858000"/>
          </a:xfrm>
        </p:grpSpPr>
        <p:sp>
          <p:nvSpPr>
            <p:cNvPr id="6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7914-35B6-450C-A50F-DA0B9F07EA6D}"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6"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2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4"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45BA-4876-46FF-9212-F1C2376FFD80}"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73" name="Group 2"/>
          <p:cNvGrpSpPr/>
          <p:nvPr/>
        </p:nvGrpSpPr>
        <p:grpSpPr>
          <a:xfrm>
            <a:off x="0" y="0"/>
            <a:ext cx="9144000" cy="6934320"/>
            <a:chOff x="0" y="0"/>
            <a:chExt cx="9144000" cy="6934320"/>
          </a:xfrm>
        </p:grpSpPr>
        <p:sp>
          <p:nvSpPr>
            <p:cNvPr id="174"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FE8C-BC20-4A80-9CA6-216D960F47E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33" name="Group 2"/>
          <p:cNvGrpSpPr/>
          <p:nvPr/>
        </p:nvGrpSpPr>
        <p:grpSpPr>
          <a:xfrm>
            <a:off x="0" y="0"/>
            <a:ext cx="9159840" cy="6858000"/>
            <a:chOff x="0" y="0"/>
            <a:chExt cx="9159840" cy="6858000"/>
          </a:xfrm>
        </p:grpSpPr>
        <p:sp>
          <p:nvSpPr>
            <p:cNvPr id="23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61FE-4DF4-4DB6-A1BF-960356A32A56}"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96"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8"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0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07"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7326-BF39-439E-BF3C-DFC4F68FA7FD}"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5"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7"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8"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0"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1"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2"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3"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4"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5"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6"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7"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8"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9"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0"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5"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8"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5D2D-FA9D-47E0-A5C2-808ADDEDC218}"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1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19"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B405-EEF3-4F76-94D6-77AFBFED675C}"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58"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1"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4"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5"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6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0"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CB11-76C8-49F0-A7FC-F22FC5E82111}" type="slidenum">
              <a:rPr b="0" lang="en-A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upload.wikimedia.org/wikipedia/commons/2/26/Sydney_Olympics_Opening_Ceremony.jpg" TargetMode="External"/><Relationship Id="rId5" Type="http://schemas.openxmlformats.org/officeDocument/2006/relationships/image" Target="../media/image20.jpeg"/><Relationship Id="rId6" Type="http://schemas.openxmlformats.org/officeDocument/2006/relationships/slideLayout" Target="../slideLayouts/slideLayout2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aiatsis.gov.au/fastfacts/AboriginalFlag.html" TargetMode="External"/><Relationship Id="rId2" Type="http://schemas.openxmlformats.org/officeDocument/2006/relationships/hyperlink" Target="http://www.indigenousaustralia.info/land/land-rights/aboriginal-tent-embassy.html" TargetMode="External"/><Relationship Id="rId3" Type="http://schemas.openxmlformats.org/officeDocument/2006/relationships/hyperlink" Target="http://www.australianexplorer.com/canberra_aboriginal_tent_embassy.htm" TargetMode="External"/><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621" name="Picture 10" descr="PB030020a"/>
          <p:cNvPicPr/>
          <p:nvPr/>
        </p:nvPicPr>
        <p:blipFill>
          <a:blip r:embed="rId1"/>
          <a:stretch/>
        </p:blipFill>
        <p:spPr>
          <a:xfrm>
            <a:off x="4211640" y="3122640"/>
            <a:ext cx="4932360" cy="3735360"/>
          </a:xfrm>
          <a:prstGeom prst="rect">
            <a:avLst/>
          </a:prstGeom>
          <a:ln w="0">
            <a:noFill/>
          </a:ln>
        </p:spPr>
      </p:pic>
      <p:pic>
        <p:nvPicPr>
          <p:cNvPr id="622" name="Picture 24" descr="pa1166"/>
          <p:cNvPicPr/>
          <p:nvPr/>
        </p:nvPicPr>
        <p:blipFill>
          <a:blip r:embed="rId2"/>
          <a:stretch/>
        </p:blipFill>
        <p:spPr>
          <a:xfrm>
            <a:off x="0" y="0"/>
            <a:ext cx="4189320" cy="6858000"/>
          </a:xfrm>
          <a:prstGeom prst="rect">
            <a:avLst/>
          </a:prstGeom>
          <a:ln w="0">
            <a:noFill/>
          </a:ln>
        </p:spPr>
      </p:pic>
      <p:pic>
        <p:nvPicPr>
          <p:cNvPr id="623" name="Picture 28" descr="aboriginal-flag"/>
          <p:cNvPicPr/>
          <p:nvPr/>
        </p:nvPicPr>
        <p:blipFill>
          <a:blip r:embed="rId3"/>
          <a:stretch/>
        </p:blipFill>
        <p:spPr>
          <a:xfrm>
            <a:off x="4211640" y="0"/>
            <a:ext cx="4932360" cy="3284640"/>
          </a:xfrm>
          <a:prstGeom prst="rect">
            <a:avLst/>
          </a:prstGeom>
          <a:ln w="0">
            <a:noFill/>
          </a:ln>
        </p:spPr>
      </p:pic>
      <p:sp>
        <p:nvSpPr>
          <p:cNvPr id="624" name="PlaceHolder 1"/>
          <p:cNvSpPr>
            <a:spLocks noGrp="1"/>
          </p:cNvSpPr>
          <p:nvPr>
            <p:ph type="title"/>
          </p:nvPr>
        </p:nvSpPr>
        <p:spPr>
          <a:xfrm>
            <a:off x="34560" y="2924280"/>
            <a:ext cx="9109080" cy="72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Aboriginal Flag and Tent Embassy</a:t>
            </a:r>
            <a:endParaRPr b="1" lang="en-US" sz="4400" spc="-1" strike="noStrike">
              <a:solidFill>
                <a:srgbClr val="feec94"/>
              </a:solidFill>
              <a:latin typeface="Times New Roman"/>
            </a:endParaRPr>
          </a:p>
        </p:txBody>
      </p:sp>
      <p:sp>
        <p:nvSpPr>
          <p:cNvPr id="625" name="PlaceHolder 2"/>
          <p:cNvSpPr>
            <a:spLocks noGrp="1"/>
          </p:cNvSpPr>
          <p:nvPr>
            <p:ph type="subTitle"/>
          </p:nvPr>
        </p:nvSpPr>
        <p:spPr>
          <a:xfrm>
            <a:off x="0" y="3765240"/>
            <a:ext cx="9144000" cy="384120"/>
          </a:xfrm>
          <a:prstGeom prst="rect">
            <a:avLst/>
          </a:prstGeom>
          <a:solidFill>
            <a:srgbClr val="ffffff"/>
          </a:solid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By John and Soph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Title 1" descr=""/>
          <p:cNvPicPr/>
          <p:nvPr/>
        </p:nvPicPr>
        <p:blipFill>
          <a:blip r:embed="rId1"/>
          <a:stretch/>
        </p:blipFill>
        <p:spPr>
          <a:xfrm>
            <a:off x="0" y="255600"/>
            <a:ext cx="9418680" cy="1176480"/>
          </a:xfrm>
          <a:prstGeom prst="rect">
            <a:avLst/>
          </a:prstGeom>
          <a:ln w="0">
            <a:noFill/>
          </a:ln>
        </p:spPr>
      </p:pic>
      <p:sp>
        <p:nvSpPr>
          <p:cNvPr id="656" name=""/>
          <p:cNvSpPr txBox="1"/>
          <p:nvPr/>
        </p:nvSpPr>
        <p:spPr>
          <a:xfrm>
            <a:off x="357120" y="11430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It stands today as a historical landmark of Australi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A second Tent Embassy was made at the 2000 Sydney Olympics</a:t>
            </a:r>
            <a:endParaRPr b="0" lang="en-US" sz="3000" spc="-1" strike="noStrike">
              <a:solidFill>
                <a:srgbClr val="ffffff"/>
              </a:solidFill>
              <a:latin typeface="Corbel"/>
            </a:endParaRPr>
          </a:p>
        </p:txBody>
      </p:sp>
      <p:pic>
        <p:nvPicPr>
          <p:cNvPr id="657" name="Picture 2" descr="http://www.peacebus.com/TentEmbassy/090126MarchBanners.jpg"/>
          <p:cNvPicPr/>
          <p:nvPr/>
        </p:nvPicPr>
        <p:blipFill>
          <a:blip r:embed="rId2"/>
          <a:stretch/>
        </p:blipFill>
        <p:spPr>
          <a:xfrm>
            <a:off x="857160" y="3357720"/>
            <a:ext cx="3106800" cy="2071440"/>
          </a:xfrm>
          <a:prstGeom prst="rect">
            <a:avLst/>
          </a:prstGeom>
          <a:ln w="0">
            <a:noFill/>
          </a:ln>
        </p:spPr>
      </p:pic>
      <p:pic>
        <p:nvPicPr>
          <p:cNvPr id="658" name="Picture 4" descr="http://www.peacebus.com/TentEmbassy/090130IsabelleFire.jpg"/>
          <p:cNvPicPr/>
          <p:nvPr/>
        </p:nvPicPr>
        <p:blipFill>
          <a:blip r:embed="rId3"/>
          <a:stretch/>
        </p:blipFill>
        <p:spPr>
          <a:xfrm>
            <a:off x="4000680" y="4896000"/>
            <a:ext cx="3000240" cy="1962000"/>
          </a:xfrm>
          <a:prstGeom prst="rect">
            <a:avLst/>
          </a:prstGeom>
          <a:ln w="0">
            <a:noFill/>
          </a:ln>
        </p:spPr>
      </p:pic>
      <p:pic>
        <p:nvPicPr>
          <p:cNvPr id="659" name="Picture 8" descr="File:Sydney Olympics Opening Ceremony.jpg">
            <a:hlinkClick r:id="rId4"/>
          </p:cNvPr>
          <p:cNvPicPr/>
          <p:nvPr/>
        </p:nvPicPr>
        <p:blipFill>
          <a:blip r:embed="rId5"/>
          <a:stretch/>
        </p:blipFill>
        <p:spPr>
          <a:xfrm>
            <a:off x="5977080" y="2786040"/>
            <a:ext cx="302400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cc"/>
                </a:solidFill>
                <a:latin typeface="Blackadder ITC"/>
              </a:rPr>
              <a:t>Bibliography</a:t>
            </a:r>
            <a:endParaRPr b="0" lang="en-US" sz="4200" spc="-1" strike="noStrike">
              <a:solidFill>
                <a:srgbClr val="ffffcc"/>
              </a:solidFill>
              <a:latin typeface="Tahoma"/>
            </a:endParaRPr>
          </a:p>
        </p:txBody>
      </p:sp>
      <p:sp>
        <p:nvSpPr>
          <p:cNvPr id="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boriginal flag, </a:t>
            </a:r>
            <a:r>
              <a:rPr b="0" lang="en-AU" sz="1600" spc="-1" strike="noStrike" u="sng">
                <a:solidFill>
                  <a:srgbClr val="ebf25a"/>
                </a:solidFill>
                <a:uFillTx/>
                <a:latin typeface="Calibri"/>
                <a:hlinkClick r:id="rId1"/>
              </a:rPr>
              <a:t>http://www.aiatsis.gov.au/fastfacts/AboriginalFlag.html</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boriginal Tent Embassy</a:t>
            </a:r>
            <a:r>
              <a:rPr b="0" i="1" lang="en-AU" sz="1600" spc="-1" strike="noStrike">
                <a:solidFill>
                  <a:srgbClr val="ffffff"/>
                </a:solidFill>
                <a:latin typeface="Calibri"/>
              </a:rPr>
              <a:t>, </a:t>
            </a:r>
            <a:r>
              <a:rPr b="0" lang="en-AU" sz="1600" spc="-1" strike="noStrike" u="sng">
                <a:solidFill>
                  <a:srgbClr val="ebf25a"/>
                </a:solidFill>
                <a:uFillTx/>
                <a:latin typeface="Calibri"/>
                <a:hlinkClick r:id="rId2"/>
              </a:rPr>
              <a:t>http://www.indigenousaustralia.info/land/land-rights/aboriginal-tent-embassy.html</a:t>
            </a:r>
            <a:r>
              <a:rPr b="0" i="1" lang="en-AU" sz="1600" spc="-1" strike="noStrike">
                <a:solidFill>
                  <a:srgbClr val="ffffff"/>
                </a:solidFill>
                <a:latin typeface="Calibri"/>
              </a:rPr>
              <a:t>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BORIGINAL TENT EMBASSY – CANBERRA, </a:t>
            </a:r>
            <a:r>
              <a:rPr b="0" lang="en-AU" sz="1600" spc="-1" strike="noStrike" u="sng">
                <a:solidFill>
                  <a:srgbClr val="ebf25a"/>
                </a:solidFill>
                <a:uFillTx/>
                <a:latin typeface="Calibri"/>
                <a:ea typeface="Calibri"/>
                <a:hlinkClick r:id="rId3"/>
              </a:rPr>
              <a:t>www.australianexplorer.com/canberra_aboriginal_tent_embassy.htm</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Australian Aboriginal Flag,</a:t>
            </a:r>
            <a:r>
              <a:rPr b="0" i="1" lang="en-AU" sz="1600" spc="-1" strike="noStrike">
                <a:solidFill>
                  <a:srgbClr val="ffffff"/>
                </a:solidFill>
                <a:latin typeface="Calibri"/>
              </a:rPr>
              <a:t> http://www.indexoz.com/flag/aboriginal-flag.htm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Calibri"/>
              </a:rPr>
              <a:t>Barlow, A. &amp; Hill, M. 2000, </a:t>
            </a:r>
            <a:r>
              <a:rPr b="0" i="1" lang="en-AU" sz="1600" spc="-1" strike="noStrike">
                <a:solidFill>
                  <a:srgbClr val="ffffff"/>
                </a:solidFill>
                <a:latin typeface="Calibri"/>
                <a:ea typeface="Calibri"/>
              </a:rPr>
              <a:t>Australia’s Aboriginal People</a:t>
            </a:r>
            <a:r>
              <a:rPr b="0" lang="en-AU" sz="1600" spc="-1" strike="noStrike">
                <a:solidFill>
                  <a:srgbClr val="ffffff"/>
                </a:solidFill>
                <a:latin typeface="Calibri"/>
                <a:ea typeface="Calibri"/>
              </a:rPr>
              <a:t>, Macmillan Education, South Yarra, VIC, Australia.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Calibri"/>
              </a:rPr>
              <a:t>Flag History – Other Australian Flags – Aboriginal Flag, </a:t>
            </a:r>
            <a:r>
              <a:rPr b="0" i="1" lang="en-AU" sz="1600" spc="-1" strike="noStrike" u="sng">
                <a:solidFill>
                  <a:srgbClr val="ffffff"/>
                </a:solidFill>
                <a:uFillTx/>
                <a:latin typeface="Calibri"/>
                <a:ea typeface="Calibri"/>
              </a:rPr>
              <a:t>http://www.flagaustnat.asn.au/aboriginalflag.php </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History Of The Aboriginal Flag, </a:t>
            </a:r>
            <a:r>
              <a:rPr b="0" i="1" lang="en-AU" sz="1600" spc="-1" strike="noStrike" u="sng">
                <a:solidFill>
                  <a:srgbClr val="ffffff"/>
                </a:solidFill>
                <a:uFillTx/>
                <a:latin typeface="Calibri"/>
              </a:rPr>
              <a:t>http://www.indigenousaustralia.info/culture/the-flag.html</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t’s an Honour – Symbols – Other Australian Flags, </a:t>
            </a:r>
            <a:r>
              <a:rPr b="0" i="1" lang="en-US" sz="1600" spc="-1" strike="noStrike">
                <a:solidFill>
                  <a:srgbClr val="ffffff"/>
                </a:solidFill>
                <a:latin typeface="Calibri"/>
              </a:rPr>
              <a:t>http://www.itsanhonour.gov.au/symbols/otherflag.cfm</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rPr>
              <a:t>NAIDOC, </a:t>
            </a:r>
            <a:r>
              <a:rPr b="0" i="1" lang="en-US" sz="1600" spc="-1" strike="noStrike" u="sng">
                <a:solidFill>
                  <a:srgbClr val="ffffff"/>
                </a:solidFill>
                <a:uFillTx/>
                <a:latin typeface="Calibri"/>
              </a:rPr>
              <a:t>http://www.naidoc.org.au/NAIDOC-about/aboriginalFlag.aspx</a:t>
            </a:r>
            <a:endParaRPr b="0" lang="en-US" sz="1600" spc="-1" strike="noStrike">
              <a:solidFill>
                <a:srgbClr val="ffffff"/>
              </a:solidFill>
              <a:latin typeface="Tahoma"/>
            </a:endParaRPr>
          </a:p>
          <a:p>
            <a:pPr marL="343080" indent="-343080">
              <a:lnSpc>
                <a:spcPct val="10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Sydney 2000 Hemp Olympix, </a:t>
            </a:r>
            <a:r>
              <a:rPr b="0" i="1" lang="en-AU" sz="1600" spc="-1" strike="noStrike">
                <a:solidFill>
                  <a:srgbClr val="ffffff"/>
                </a:solidFill>
                <a:latin typeface="Calibri"/>
                <a:ea typeface="Calibri"/>
              </a:rPr>
              <a:t>http://www.nimbinaustralia.com/lisa/yeates/sydneyhempolympix.htm</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Harold Thomas</a:t>
            </a:r>
            <a:endParaRPr b="1" lang="en-US" sz="4400" spc="-1" strike="noStrike">
              <a:solidFill>
                <a:srgbClr val="feec94"/>
              </a:solidFill>
              <a:latin typeface="Times New Roman"/>
            </a:endParaRPr>
          </a:p>
        </p:txBody>
      </p:sp>
      <p:sp>
        <p:nvSpPr>
          <p:cNvPr id="62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esigner of the Aboriginal Fla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orn in Alice Spring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on a scholarship to the South Australian School of Art in 1965.</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irst Aboriginal graduate from an Australian Art School.</a:t>
            </a:r>
            <a:endParaRPr b="0" lang="en-US" sz="2800" spc="-1" strike="noStrike">
              <a:solidFill>
                <a:srgbClr val="ffffff"/>
              </a:solidFill>
              <a:latin typeface="Times New Roman"/>
            </a:endParaRPr>
          </a:p>
        </p:txBody>
      </p:sp>
      <p:pic>
        <p:nvPicPr>
          <p:cNvPr id="628" name="Picture 8" descr="thomas"/>
          <p:cNvPicPr/>
          <p:nvPr/>
        </p:nvPicPr>
        <p:blipFill>
          <a:blip r:embed="rId1"/>
          <a:stretch/>
        </p:blipFill>
        <p:spPr>
          <a:xfrm>
            <a:off x="5148360" y="1700280"/>
            <a:ext cx="290340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Colours of the Flag</a:t>
            </a:r>
            <a:endParaRPr b="1" lang="en-US" sz="4400" spc="-1" strike="noStrike">
              <a:solidFill>
                <a:srgbClr val="feec94"/>
              </a:solidFill>
              <a:latin typeface="Times New Roman"/>
            </a:endParaRPr>
          </a:p>
        </p:txBody>
      </p:sp>
      <p:sp>
        <p:nvSpPr>
          <p:cNvPr id="6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lack – Aboriginal people of Australi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ed – red earth, red ochre used in ceremonies and Aboriginal peoples’ spiritual relation to the lan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Yellow – sun, giver and protector of life</a:t>
            </a:r>
            <a:endParaRPr b="0" lang="en-US" sz="2800" spc="-1" strike="noStrike">
              <a:solidFill>
                <a:srgbClr val="ffffff"/>
              </a:solidFill>
              <a:latin typeface="Times New Roman"/>
            </a:endParaRPr>
          </a:p>
        </p:txBody>
      </p:sp>
      <p:pic>
        <p:nvPicPr>
          <p:cNvPr id="631" name="Picture 5" descr="aboriginal-flag"/>
          <p:cNvPicPr/>
          <p:nvPr/>
        </p:nvPicPr>
        <p:blipFill>
          <a:blip r:embed="rId1"/>
          <a:stretch/>
        </p:blipFill>
        <p:spPr>
          <a:xfrm>
            <a:off x="2484360" y="3768840"/>
            <a:ext cx="424836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History of the Flag</a:t>
            </a:r>
            <a:endParaRPr b="1" lang="en-US" sz="4400" spc="-1" strike="noStrike">
              <a:solidFill>
                <a:srgbClr val="feec94"/>
              </a:solidFill>
              <a:latin typeface="Times New Roman"/>
            </a:endParaRPr>
          </a:p>
        </p:txBody>
      </p:sp>
      <p:pic>
        <p:nvPicPr>
          <p:cNvPr id="633" name="Picture 5" descr="tent-embassy"/>
          <p:cNvPicPr/>
          <p:nvPr/>
        </p:nvPicPr>
        <p:blipFill>
          <a:blip r:embed="rId1"/>
          <a:stretch/>
        </p:blipFill>
        <p:spPr>
          <a:xfrm>
            <a:off x="898560" y="3860640"/>
            <a:ext cx="3168720" cy="2381400"/>
          </a:xfrm>
          <a:prstGeom prst="rect">
            <a:avLst/>
          </a:prstGeom>
          <a:ln w="0">
            <a:noFill/>
          </a:ln>
        </p:spPr>
      </p:pic>
      <p:sp>
        <p:nvSpPr>
          <p:cNvPr id="63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irst flown at Victoria Square in Adelaide on National Aborigines day July 12th 1971.</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Later used at the Tent Embassy in Canberra, 1972.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Proclaimed as an official ‘Flag of Australia’ in 1995.</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5" name="Picture 7" descr="800px-Aboriginal_Flag_-_Victoria_Square"/>
          <p:cNvPicPr/>
          <p:nvPr/>
        </p:nvPicPr>
        <p:blipFill>
          <a:blip r:embed="rId2"/>
          <a:stretch/>
        </p:blipFill>
        <p:spPr>
          <a:xfrm>
            <a:off x="900000" y="1414440"/>
            <a:ext cx="3167280" cy="23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eec94"/>
                </a:solidFill>
                <a:latin typeface="Blackadder ITC"/>
              </a:rPr>
              <a:t>When is the Aboriginal Flag used?</a:t>
            </a:r>
            <a:endParaRPr b="1" lang="en-US" sz="4400" spc="-1" strike="noStrike">
              <a:solidFill>
                <a:srgbClr val="feec94"/>
              </a:solidFill>
              <a:latin typeface="Times New Roman"/>
            </a:endParaRPr>
          </a:p>
        </p:txBody>
      </p:sp>
      <p:sp>
        <p:nvSpPr>
          <p:cNvPr id="637" name="PlaceHolder 2"/>
          <p:cNvSpPr>
            <a:spLocks noGrp="1"/>
          </p:cNvSpPr>
          <p:nvPr>
            <p:ph/>
          </p:nvPr>
        </p:nvSpPr>
        <p:spPr>
          <a:xfrm>
            <a:off x="457200" y="1599840"/>
            <a:ext cx="8229600" cy="2189160"/>
          </a:xfrm>
          <a:prstGeom prst="rect">
            <a:avLst/>
          </a:prstGeom>
          <a:noFill/>
          <a:ln w="0">
            <a:noFill/>
          </a:ln>
        </p:spPr>
        <p:txBody>
          <a:bodyPr anchor="t">
            <a:normAutofit fontScale="91000"/>
          </a:bodyPr>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 symbol of unity and national identity for Aboriginal people.</a:t>
            </a:r>
            <a:endParaRPr b="0" lang="en-US" sz="2800" spc="-1" strike="noStrike">
              <a:solidFill>
                <a:srgbClr val="ffffff"/>
              </a:solidFill>
              <a:latin typeface="Times New Roman"/>
            </a:endParaRPr>
          </a:p>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isplayed permanently at Aboriginal centres throughout Australia.</a:t>
            </a:r>
            <a:endParaRPr b="0" lang="en-US" sz="2800" spc="-1" strike="noStrike">
              <a:solidFill>
                <a:srgbClr val="ffffff"/>
              </a:solidFill>
              <a:latin typeface="Times New Roman"/>
            </a:endParaRPr>
          </a:p>
          <a:p>
            <a:pPr marL="312120" indent="-3121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lown during NAIDOC Week.</a:t>
            </a:r>
            <a:endParaRPr b="0" lang="en-US" sz="2800" spc="-1" strike="noStrike">
              <a:solidFill>
                <a:srgbClr val="ffffff"/>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8" name="Picture 4" descr=""/>
          <p:cNvPicPr/>
          <p:nvPr/>
        </p:nvPicPr>
        <p:blipFill>
          <a:blip r:embed="rId1"/>
          <a:srcRect l="36052" t="21921" r="23900" b="47129"/>
          <a:stretch/>
        </p:blipFill>
        <p:spPr>
          <a:xfrm>
            <a:off x="2117880" y="4346640"/>
            <a:ext cx="4954320" cy="239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1eeff"/>
                </a:solidFill>
                <a:latin typeface="Consolas"/>
              </a:rPr>
              <a:t>The 1960’s</a:t>
            </a:r>
            <a:endParaRPr b="0" lang="en-US" sz="4000" spc="-1" strike="noStrike">
              <a:solidFill>
                <a:srgbClr val="c1eeff"/>
              </a:solidFill>
              <a:latin typeface="Consolas"/>
            </a:endParaRPr>
          </a:p>
        </p:txBody>
      </p:sp>
      <p:sp>
        <p:nvSpPr>
          <p:cNvPr id="640" name=""/>
          <p:cNvSpPr txBox="1"/>
          <p:nvPr/>
        </p:nvSpPr>
        <p:spPr>
          <a:xfrm>
            <a:off x="5071680" y="1714680"/>
            <a:ext cx="39006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rbel"/>
              </a:rPr>
              <a:t>The Aborigines became frustrated with the Australian Federal Government.</a:t>
            </a: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orbel"/>
              </a:rPr>
              <a:t>The Aboriginals were not treated as equal citizens.</a:t>
            </a:r>
            <a:endParaRPr b="0" lang="en-US" sz="2800" spc="-1" strike="noStrike">
              <a:solidFill>
                <a:srgbClr val="ffffff"/>
              </a:solidFill>
              <a:latin typeface="Corbel"/>
            </a:endParaRPr>
          </a:p>
        </p:txBody>
      </p:sp>
      <p:pic>
        <p:nvPicPr>
          <p:cNvPr id="641" name="Picture 8" descr="riders"/>
          <p:cNvPicPr/>
          <p:nvPr/>
        </p:nvPicPr>
        <p:blipFill>
          <a:blip r:embed="rId1"/>
          <a:stretch/>
        </p:blipFill>
        <p:spPr>
          <a:xfrm>
            <a:off x="606600" y="2000160"/>
            <a:ext cx="4322520" cy="3187800"/>
          </a:xfrm>
          <a:prstGeom prst="rect">
            <a:avLst/>
          </a:prstGeom>
          <a:ln w="0">
            <a:noFill/>
          </a:ln>
        </p:spPr>
      </p:pic>
      <p:sp>
        <p:nvSpPr>
          <p:cNvPr id="642" name="Rectangle 4"/>
          <p:cNvSpPr/>
          <p:nvPr/>
        </p:nvSpPr>
        <p:spPr>
          <a:xfrm>
            <a:off x="1416600" y="5214960"/>
            <a:ext cx="225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rbel"/>
              </a:rPr>
              <a:t>Freedom Ride 196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Title 1" descr=""/>
          <p:cNvPicPr/>
          <p:nvPr/>
        </p:nvPicPr>
        <p:blipFill>
          <a:blip r:embed="rId1"/>
          <a:stretch/>
        </p:blipFill>
        <p:spPr>
          <a:xfrm>
            <a:off x="560520" y="324000"/>
            <a:ext cx="8132760" cy="1455480"/>
          </a:xfrm>
          <a:prstGeom prst="rect">
            <a:avLst/>
          </a:prstGeom>
          <a:ln w="0">
            <a:noFill/>
          </a:ln>
        </p:spPr>
      </p:pic>
      <p:sp>
        <p:nvSpPr>
          <p:cNvPr id="644" name=""/>
          <p:cNvSpPr txBox="1"/>
          <p:nvPr/>
        </p:nvSpPr>
        <p:spPr>
          <a:xfrm>
            <a:off x="914040" y="1784520"/>
            <a:ext cx="3871800" cy="45720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What: a tent erected on the lawn of the Old Parliament House.</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Purpose: to protest against the treatment of Aboriginals and their human rights.</a:t>
            </a:r>
            <a:endParaRPr b="0" lang="en-US" sz="3000" spc="-1" strike="noStrike">
              <a:solidFill>
                <a:srgbClr val="ffffff"/>
              </a:solidFill>
              <a:latin typeface="Corbel"/>
            </a:endParaRPr>
          </a:p>
        </p:txBody>
      </p:sp>
      <p:pic>
        <p:nvPicPr>
          <p:cNvPr id="645" name="Picture 7" descr="ab-tent-em-1972"/>
          <p:cNvPicPr/>
          <p:nvPr/>
        </p:nvPicPr>
        <p:blipFill>
          <a:blip r:embed="rId2"/>
          <a:stretch/>
        </p:blipFill>
        <p:spPr>
          <a:xfrm>
            <a:off x="4684680" y="2143080"/>
            <a:ext cx="43164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Title 1" descr=""/>
          <p:cNvPicPr/>
          <p:nvPr/>
        </p:nvPicPr>
        <p:blipFill>
          <a:blip r:embed="rId1"/>
          <a:stretch/>
        </p:blipFill>
        <p:spPr>
          <a:xfrm>
            <a:off x="42840" y="304920"/>
            <a:ext cx="9107640" cy="1127160"/>
          </a:xfrm>
          <a:prstGeom prst="rect">
            <a:avLst/>
          </a:prstGeom>
          <a:ln w="0">
            <a:noFill/>
          </a:ln>
        </p:spPr>
      </p:pic>
      <p:sp>
        <p:nvSpPr>
          <p:cNvPr id="647" name=""/>
          <p:cNvSpPr txBox="1"/>
          <p:nvPr/>
        </p:nvSpPr>
        <p:spPr>
          <a:xfrm>
            <a:off x="428760" y="1214280"/>
            <a:ext cx="8572320" cy="1500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Many unsuccessful attempts by police to remove tent; repelled by Aboriginals and Australians</a:t>
            </a:r>
            <a:endParaRPr b="0" lang="en-US" sz="3000" spc="-1" strike="noStrike">
              <a:solidFill>
                <a:srgbClr val="ffffff"/>
              </a:solidFill>
              <a:latin typeface="Corbel"/>
            </a:endParaRPr>
          </a:p>
        </p:txBody>
      </p:sp>
      <p:pic>
        <p:nvPicPr>
          <p:cNvPr id="648" name="Picture 2" descr="With the passage of new legislation specifically to remove the Aboriginal Embassy, the police were ordered to pull down the tents."/>
          <p:cNvPicPr/>
          <p:nvPr/>
        </p:nvPicPr>
        <p:blipFill>
          <a:blip r:embed="rId2"/>
          <a:stretch/>
        </p:blipFill>
        <p:spPr>
          <a:xfrm>
            <a:off x="428760" y="3000240"/>
            <a:ext cx="5321160" cy="3592800"/>
          </a:xfrm>
          <a:prstGeom prst="rect">
            <a:avLst/>
          </a:prstGeom>
          <a:ln w="0">
            <a:noFill/>
          </a:ln>
        </p:spPr>
      </p:pic>
      <p:pic>
        <p:nvPicPr>
          <p:cNvPr id="649" name="Picture 3" descr="C:\Users\DJ\Pictures\age21july72.jpg"/>
          <p:cNvPicPr/>
          <p:nvPr/>
        </p:nvPicPr>
        <p:blipFill>
          <a:blip r:embed="rId3"/>
          <a:stretch/>
        </p:blipFill>
        <p:spPr>
          <a:xfrm>
            <a:off x="5786280" y="2214720"/>
            <a:ext cx="3214800" cy="45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Title 1" descr=""/>
          <p:cNvPicPr/>
          <p:nvPr/>
        </p:nvPicPr>
        <p:blipFill>
          <a:blip r:embed="rId1"/>
          <a:stretch/>
        </p:blipFill>
        <p:spPr>
          <a:xfrm>
            <a:off x="596880" y="311040"/>
            <a:ext cx="8096400" cy="1121040"/>
          </a:xfrm>
          <a:prstGeom prst="rect">
            <a:avLst/>
          </a:prstGeom>
          <a:ln w="0">
            <a:noFill/>
          </a:ln>
        </p:spPr>
      </p:pic>
      <p:sp>
        <p:nvSpPr>
          <p:cNvPr id="651" name=""/>
          <p:cNvSpPr txBox="1"/>
          <p:nvPr/>
        </p:nvSpPr>
        <p:spPr>
          <a:xfrm>
            <a:off x="914040" y="1784520"/>
            <a:ext cx="38718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Charles Perkins negotiated with the Minister of the ACT for the tent’s removal in  February 1975.</a:t>
            </a:r>
            <a:endParaRPr b="0" lang="en-US" sz="3000" spc="-1" strike="noStrike">
              <a:solidFill>
                <a:srgbClr val="ffffff"/>
              </a:solidFill>
              <a:latin typeface="Corbel"/>
            </a:endParaRPr>
          </a:p>
        </p:txBody>
      </p:sp>
      <p:sp>
        <p:nvSpPr>
          <p:cNvPr id="652" name="Content Placeholder 2"/>
          <p:cNvSpPr/>
          <p:nvPr/>
        </p:nvSpPr>
        <p:spPr>
          <a:xfrm>
            <a:off x="4857840" y="4357800"/>
            <a:ext cx="3871800" cy="45720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orbel"/>
              </a:rPr>
              <a:t>The Tent Embassy was re-erected in January 1992.</a:t>
            </a:r>
            <a:endParaRPr b="0" lang="en-US" sz="3000" spc="-1" strike="noStrike">
              <a:solidFill>
                <a:srgbClr val="ffffff"/>
              </a:solidFill>
              <a:latin typeface="Times New Roman"/>
            </a:endParaRPr>
          </a:p>
        </p:txBody>
      </p:sp>
      <p:pic>
        <p:nvPicPr>
          <p:cNvPr id="653" name="Picture 2" descr="http://2.bp.blogspot.com/_fOBnx3nYQ3k/R7A8RK-fFWI/AAAAAAAABCY/4UiXEgUmhUA/s400/IMG_0285_1.JPG"/>
          <p:cNvPicPr/>
          <p:nvPr/>
        </p:nvPicPr>
        <p:blipFill>
          <a:blip r:embed="rId2"/>
          <a:stretch/>
        </p:blipFill>
        <p:spPr>
          <a:xfrm>
            <a:off x="4929120" y="1500120"/>
            <a:ext cx="3810240" cy="2857680"/>
          </a:xfrm>
          <a:prstGeom prst="rect">
            <a:avLst/>
          </a:prstGeom>
          <a:ln w="0">
            <a:noFill/>
          </a:ln>
        </p:spPr>
      </p:pic>
      <p:pic>
        <p:nvPicPr>
          <p:cNvPr id="654" name="Picture 4" descr="Charlie Perkins"/>
          <p:cNvPicPr/>
          <p:nvPr/>
        </p:nvPicPr>
        <p:blipFill>
          <a:blip r:embed="rId3"/>
          <a:stretch/>
        </p:blipFill>
        <p:spPr>
          <a:xfrm>
            <a:off x="2786040" y="4714920"/>
            <a:ext cx="1285920" cy="171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30:10Z</dcterms:created>
  <dc:creator>Reservoir District Secondary College</dc:creator>
  <dc:description/>
  <dc:language>en-US</dc:language>
  <cp:lastModifiedBy>Ern Reichelt</cp:lastModifiedBy>
  <dcterms:modified xsi:type="dcterms:W3CDTF">2010-06-08T12:13:43Z</dcterms:modified>
  <cp:revision>45</cp:revision>
  <dc:subject/>
  <dc:title>The Aboriginal Flag and Tent Embassy</dc:title>
</cp:coreProperties>
</file>